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837-7173-4CCD-B47B-6B426659F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755-4F81-480F-B0B5-4F9CC17A9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16F-4F79-4885-80A0-AD1F3BFA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6EC-2868-4967-BC86-F672CA7F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027-90F7-49C4-BB5C-7FF9AEA9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940-571D-4E63-A2A4-8D3046E7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BD0-656C-435E-9CF6-6D670EDE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659-D21B-4B3D-8D4B-3D5DE2F4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A19-A30C-4F3A-B445-4DAD36F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745-4C2A-4433-933D-4146791A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910-1DE6-442C-B94B-336FBA98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FA6-4319-4BF5-9A2F-23D3A8D5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C33-12BF-492E-9F0E-2859642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D96-FCA5-4CFB-8222-2F8503AF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09A8-3870-4F60-B792-7234D2C2F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hfooza Chou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hfooza Choudh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er fotos de Mahfooza Choudh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nviar mensaje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olpea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 como estas Nou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152280" y="3352680"/>
            <a:ext cx="1600200" cy="763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Mahfooza Choudhury. Mi escuela es TYWLS de Astoria. Tengo 14 años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oy en el grado 9. Mi color favorite es el Azul. Amo le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e siento muy feliz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enas dias Mahfooza. Y tu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uenas Días Noureen? Como estas hoy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feliz porque es su cumpleaños mañana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5909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849960" y="64771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-1.png"/>
          <p:cNvPicPr/>
          <p:nvPr/>
        </p:nvPicPr>
        <p:blipFill>
          <a:blip r:embed="rId1"/>
          <a:stretch/>
        </p:blipFill>
        <p:spPr>
          <a:xfrm>
            <a:off x="76320" y="5257800"/>
            <a:ext cx="609480" cy="45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Photo on 12-4-12 at 8.58 AM #3.jpg"/>
          <p:cNvPicPr/>
          <p:nvPr/>
        </p:nvPicPr>
        <p:blipFill>
          <a:blip r:embed="rId2"/>
          <a:stretch/>
        </p:blipFill>
        <p:spPr>
          <a:xfrm>
            <a:off x="152280" y="533520"/>
            <a:ext cx="167976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9" descr="Photo on 12-4-12 at 8.58 AM #3.jpg"/>
          <p:cNvPicPr/>
          <p:nvPr/>
        </p:nvPicPr>
        <p:blipFill>
          <a:blip r:embed="rId3"/>
          <a:stretch/>
        </p:blipFill>
        <p:spPr>
          <a:xfrm>
            <a:off x="2057400" y="2514600"/>
            <a:ext cx="56052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0" descr="Photo on 12-4-12 at 8.58 AM #3.jpg"/>
          <p:cNvPicPr/>
          <p:nvPr/>
        </p:nvPicPr>
        <p:blipFill>
          <a:blip r:embed="rId4"/>
          <a:stretch/>
        </p:blipFill>
        <p:spPr>
          <a:xfrm>
            <a:off x="2057400" y="3886200"/>
            <a:ext cx="56052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1" descr="Photo on 12-4-12 at 8.58 AM #3.jpg"/>
          <p:cNvPicPr/>
          <p:nvPr/>
        </p:nvPicPr>
        <p:blipFill>
          <a:blip r:embed="rId5"/>
          <a:stretch/>
        </p:blipFill>
        <p:spPr>
          <a:xfrm>
            <a:off x="2057400" y="5105520"/>
            <a:ext cx="56052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Photo on 12-4-12 at 9-1.jpeg"/>
          <p:cNvPicPr/>
          <p:nvPr/>
        </p:nvPicPr>
        <p:blipFill>
          <a:blip r:embed="rId6"/>
          <a:stretch/>
        </p:blipFill>
        <p:spPr>
          <a:xfrm>
            <a:off x="1371600" y="525780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hoto on 12-4-12 at 9.jpeg"/>
          <p:cNvPicPr/>
          <p:nvPr/>
        </p:nvPicPr>
        <p:blipFill>
          <a:blip r:embed="rId7"/>
          <a:stretch/>
        </p:blipFill>
        <p:spPr>
          <a:xfrm>
            <a:off x="762120" y="53341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5" descr="Photo on 12-4-12 at 9.jpeg"/>
          <p:cNvPicPr/>
          <p:nvPr/>
        </p:nvPicPr>
        <p:blipFill>
          <a:blip r:embed="rId8"/>
          <a:stretch/>
        </p:blipFill>
        <p:spPr>
          <a:xfrm>
            <a:off x="2057400" y="3276720"/>
            <a:ext cx="533520" cy="355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6" descr="Photo on 12-4-12 at 9.jpeg"/>
          <p:cNvPicPr/>
          <p:nvPr/>
        </p:nvPicPr>
        <p:blipFill>
          <a:blip r:embed="rId9"/>
          <a:stretch/>
        </p:blipFill>
        <p:spPr>
          <a:xfrm>
            <a:off x="2057400" y="457200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7" descr="Photo on 12-4-12 at 9.jpeg"/>
          <p:cNvPicPr/>
          <p:nvPr/>
        </p:nvPicPr>
        <p:blipFill>
          <a:blip r:embed="rId10"/>
          <a:stretch/>
        </p:blipFill>
        <p:spPr>
          <a:xfrm>
            <a:off x="2057400" y="5943600"/>
            <a:ext cx="53352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43:18Z</dcterms:created>
  <dc:creator>FriscoISD</dc:creator>
  <dc:description/>
  <dc:language>en-US</dc:language>
  <cp:lastModifiedBy>User</cp:lastModifiedBy>
  <dcterms:modified xsi:type="dcterms:W3CDTF">2012-12-06T14:03:06Z</dcterms:modified>
  <cp:revision>103</cp:revision>
  <dc:subject/>
  <dc:title>Profile</dc:title>
</cp:coreProperties>
</file>